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EFE23-AA3D-4962-9C5B-D24DAE3B9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44D3B-AE3B-4CB1-B633-5D4CCE462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988CE-BFB3-4A11-B88F-5E2BCAB03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04916-1BFB-4E36-8CA2-04C734A93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84B8B-FBD4-4D0E-840F-005DA611B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B3B58-3012-41A7-968B-42C0AE503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AC753-5954-4640-9759-1969CB735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70FAC-503F-4530-BB7B-5DCF32CD6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83125-7B00-45F0-9A2F-F982E440B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48AB1-9E2A-4AFB-8CF2-B701F01A0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4FBAC-B89D-4B93-9FD8-3B96CC087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F60BA-6361-40D8-9974-9D934E3E1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c08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D4F4C-CD30-4025-B099-6B890C08ED6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As partes da planta</a:t>
            </a:r>
            <a:endParaRPr b="0" lang="en-US" sz="5400" spc="-1" strike="noStrike">
              <a:solidFill>
                <a:srgbClr val="dfc08d"/>
              </a:solidFill>
              <a:latin typeface="Arial"/>
            </a:endParaRPr>
          </a:p>
        </p:txBody>
      </p:sp>
    </p:spTree>
  </p:cSld>
  <p:transition spd="med" advTm="3000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iz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ma vez que a maioria das raízes são subterrâneas e portanto não facilmente visíveis, nossa tendência é ignorá-las e desmerecê-las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003640" y="3933720"/>
            <a:ext cx="2143440" cy="213372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ule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ma curiosidade é que as plantas primitivas só tinham caule ! Estes são tidos como precursores das folhas e assim ancestrais do próprio sistema caulinar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 caule promove interligação entre raiz e folha, levando a seiva bruta da raiz para as folha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6948360" y="333360"/>
            <a:ext cx="2009880" cy="226692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zoom dir="ou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lha    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as folhas, ocorre a fotossíntese, que é um processo de produção de glicose e oxigênio. Este processo tem como um de seus componentes a luz do sol. A luz é formada por feixes de diferentes comprimentos onda. Cada comprimento é de uma cor. Essas são as cores primária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6012000" y="2349360"/>
            <a:ext cx="1990440" cy="230508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zoom dir="out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0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Flor                                                   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A flor é uma folha modificada do vegetal, de crescimento limitado, contendo as estruturas reprodutivas da planta Giniceu (parte feminina), Androceu (parte masculina).</a:t>
            </a:r>
            <a:br>
              <a:rPr sz="2000"/>
            </a:b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A pétala funciona como atrativo.Cada espécie evoluiu suas flores em tamanho, forma e cor, para se adaptar aos seus determinados     polinizadores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. 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5292720" y="2276640"/>
            <a:ext cx="2467080" cy="184752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zoom dir="out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7" dur="2000" fill="hold"/>
                                        <p:tgtEl>
                                          <p:spTgt spid="4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ruto                    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correndo a fecundação, o óvulo origina a semente, e o ovário, o fruto. O fruto protege as sementes e prepara o solo, facilitando a germinaçã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5651640" y="4149720"/>
            <a:ext cx="2152440" cy="200016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zoom dir="out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1T23:09:41Z</dcterms:created>
  <dc:creator>VALERIA</dc:creator>
  <dc:description/>
  <dc:language>en-US</dc:language>
  <cp:lastModifiedBy>VALERIA</cp:lastModifiedBy>
  <dcterms:modified xsi:type="dcterms:W3CDTF">2010-12-02T01:33:53Z</dcterms:modified>
  <cp:revision>3</cp:revision>
  <dc:subject/>
  <dc:title>As partes da planta</dc:title>
</cp:coreProperties>
</file>